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9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C4B-D979-46DC-96AC-7C457B47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BD1-14BC-416D-A39E-86CB5DE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A02-7658-4A14-A0A5-5A5DED02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B03-0B70-4B62-A507-43C91F47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4C74-B193-4DB7-B39E-B1E74A5A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C35-5B3E-493B-A530-63D5498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2CE0-7E10-40F2-9084-FB4C5104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D928-62BA-4F1B-80BC-219BE4E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BA0D-CA5A-47C5-9F78-11DB043C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1115-60DA-4CB7-A5C5-34BE736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02F-0E4C-4A42-B772-62C5963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F8C-8BBF-42D5-A81B-FC5C3F3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C05-0CF5-454A-9D7A-D0A91B1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941-468B-4B63-9875-F6B248B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45B6-6519-4C8A-A2F1-8C8A6D0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729-E148-4677-BA7C-D1EFFC02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41F-159F-44F2-96B4-49ABEE4F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F97-0850-44A5-B954-EE51146C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3C0-0A98-4E8E-A047-72209FE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B6B-4720-450E-9C8D-72B052D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9B6-6436-4BD8-8EA0-B7E16C9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F47-96A0-486F-A325-2CDC4D6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34C-29B3-4757-BA36-F632E2D4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1E6-A744-4B82-A3EB-7CF0958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4C4-4A7E-4A25-AEDB-63FEAEFDFFD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3AB27B4-568F-403B-9B9B-F36DB82210A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6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2731-F798-45D3-9465-87CE767122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20E-6593-46F4-98FC-CC5AB322D462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13503A14-F81A-40AC-970C-C1C7450BA00B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607-529C-42D6-ABAD-7FAE8476BD5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4A0-1915-42BD-893E-6B4F16D8EF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76782-595F-4C90-BC56-5163F405FBAE}" type="datetime8">
              <a:rPr lang="en-US"/>
              <a:t>07/31/26 17:16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2852640"/>
            <a:ext cx="7921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3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在个体域限制为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）和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）条件时，将下列命题符号化，并给出它们的真值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 对于任意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均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-3x+2=(x-1)(x-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） 存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使得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+5=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其中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）个体域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=N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）个体域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=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解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-3x+2=(x-1)(x-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+5=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可符号化为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F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G(x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36240" y="1677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阶逻辑中命题符号化问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280" y="1052640"/>
            <a:ext cx="8569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谓词常项时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个命题，如果把个体域中的任何一个个体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入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为真，则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；否则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谓词常项时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个命题，如果个体域中存在一个个体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，则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；否则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D0C-70FB-426A-8922-D9C97E3EAF3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1218-C216-4283-8405-F57EFF332636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6000" y="1052640"/>
            <a:ext cx="88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将下列命题符号化，并讨论其真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所有的人都长着黑头发；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有的人登上过月球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没有人登上过木星；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在美国留学的学生未必都是亚洲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34936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解：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长着黑头发。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M(x)→ F(x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6360" y="3716280"/>
            <a:ext cx="40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登上过月球。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M(x)∧G(x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3284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命题为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4508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上过木星。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┐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M(x)∧H(x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4184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命题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445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在美国留学的学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G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亚洲人。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497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命题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87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F(x)→ G(x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1680" y="5877000"/>
            <a:ext cx="17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命题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36240" y="1677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阶逻辑中命题符号化问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44E-AB90-4C94-A809-02444964AB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E62EC-6A73-43B8-A285-6DBADE4FB41D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993600"/>
            <a:ext cx="815328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下列命题符号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兔子比乌龟跑得快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有的兔子比所有的乌龟跑得快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不是所有的兔子都比乌龟跑得快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不存在跑得同样快的两只兔子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解：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F(x): 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兔子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G(y): 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乌龟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H(x,y): 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跑得快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; L(x,y): 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跑得同样快。则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(F(x)∧G(y) →H(x,y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( F(x)∧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(G(y) →H(x,y)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(F(x)∧G(y) →H(x,y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(F(x)∧F(y)∧L(x,y)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91160" y="138240"/>
            <a:ext cx="44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n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元谓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n≥2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符号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AB7-5AAF-4E2C-A5FA-C9E2E8C920E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F9F06-7844-4C48-B1C2-EFAE50CF1DCC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981000"/>
            <a:ext cx="850752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注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析命题中表示性质和关系的谓词，分别符号化为一元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谓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n≥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根据命题的实际意义选用全称量词或存在量词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一般来说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多个量词在一起时，其顺序不能随意调换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例如：“对任意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存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+y=10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一命题，可符号化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H(x,y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H(x,y): x+y =10)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它不能改写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H(x,y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些命题的符号化形式不唯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例如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还可符号化为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(F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G(y)∧┐H(x,y)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; 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还可符号化为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(F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F(y)→┐L(x,y)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8A0-BC78-4C78-81DB-459F6483DEC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3E141-FCD7-48BB-8346-CAED92B9852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1916280"/>
            <a:ext cx="80582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定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一个非逻辑符号，由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生成的</a:t>
            </a: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一阶语言</a:t>
            </a:r>
            <a:r>
              <a:rPr b="1" lang="zh-CN" sz="2000" spc="-1" strike="noStrike">
                <a:solidFill>
                  <a:srgbClr val="ff0000"/>
                </a:solidFill>
                <a:latin typeface="Monotype Corsiva"/>
                <a:ea typeface="华文隶书"/>
              </a:rPr>
              <a:t>L</a:t>
            </a:r>
            <a:r>
              <a:rPr b="1" lang="zh-CN" sz="2000" spc="-1" strike="noStrike">
                <a:solidFill>
                  <a:srgbClr val="ff0000"/>
                </a:solidFill>
                <a:latin typeface="Monotype Corsiva"/>
              </a:rPr>
              <a:t>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字母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包括下述符号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非逻辑符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常项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, b, c, …;   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b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,…      ,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≥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函数符号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, g, h, …;   f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h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,…       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≥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谓词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,G, H,…; F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H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,…,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≥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符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变项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, z, …;   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y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z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 ,…,  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≥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量词符号：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联结词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∧,∨, →,↔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7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逗号与括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 (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0" y="119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阶逻辑公式及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880" y="1125360"/>
            <a:ext cx="80582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非逻辑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体词常项符号、函数符号和谓词符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逻辑符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体词变项符号、量词符号、联结词符号和括号与逗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927-82C8-4694-8EB4-3F0439FB420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B6323-9DD5-4EAF-A20F-B20BC5F0B0EA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1090440"/>
            <a:ext cx="8058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2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一阶语言</a:t>
            </a:r>
            <a:r>
              <a:rPr b="1" lang="zh-CN" sz="2200" spc="-1" strike="noStrike">
                <a:solidFill>
                  <a:srgbClr val="ff0000"/>
                </a:solidFill>
                <a:latin typeface="Monotype Corsiva"/>
                <a:ea typeface="华文隶书"/>
              </a:rPr>
              <a:t>L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定义如下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常项符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变项符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i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…,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元函数符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…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…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所有的项都是有限次使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的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02760" y="90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项与原子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520" y="3470400"/>
            <a:ext cx="81518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R(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一阶语言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元谓词符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…,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R(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…,t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原子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360" y="44370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.5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一元谓词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G(y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二元谓词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H(x,y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L(x,y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原子公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89A-9020-402E-97B5-01541DF087B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FFF1C-3A3A-4E34-AFA9-E3007B37D0A9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1600" y="1084320"/>
            <a:ext cx="876312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阶语言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合式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称为谓词公式或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定义如下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原子公式是合式公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合式公式，则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┐A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也是合式公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, 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合式公式，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∧B), (A∨B), (A→B), (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也是合式公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合式公式，则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,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也是合式公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有限次应用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~(4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构成的符号串才是合式公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公式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，称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指导变元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相应量词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辖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在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辖域中，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所有出现都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约束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不是约束出现的其它变项都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自由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18440" y="9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合式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C6C-6816-4FCF-AE35-C6117B86A67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C06A6-9B31-45CE-8356-3B0930E69E7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057320"/>
            <a:ext cx="84312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指出下列公式中的指导变元，各量词的辖域，自由出现和约束出现的个体变项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(F(x,y) →G(x,z));                                                      (4.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(F(x) →G(y)) 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(H(x)∧L(x,y,z)).                       (4.2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指导变元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;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量词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辖域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=(F(x,y) →G(x,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约束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;  y, 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自由出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前件量词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指导变元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;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后件量词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指导变元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量词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辖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(F(x)→G(y)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约束出现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自由出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量词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辖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(H(x)∧L(x,y,z) 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约束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, z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自由出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33760" y="9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辖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DE1-4AE1-46A2-9760-95D511FC353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FB148-837C-4D7E-A67D-F4505AA27F75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907920"/>
            <a:ext cx="8820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任意的公式，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不含自由出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个体变项，则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封闭的公式，简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闭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∧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→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∧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→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4.7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将下列两个公式中的变项指定为常项使其成为命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→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                                                                                (4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∧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∧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→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)                                  (4.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体域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x)                   G(x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命题          真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全总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人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黄种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数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自然数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整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(2)(4.26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式含两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函数变项，一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谓词变项，两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谓词变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体域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全总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实数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≠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命题：对于任意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若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都是实数且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≠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真值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7080" y="386064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有人都是黄种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386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00360" y="422100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有自然数都是整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42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3760" y="9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闭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3600" y="1916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是闭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651-FF0C-4D65-8E03-DE31E081161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49258-52FD-4E90-A681-F5B61771924C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1052640"/>
            <a:ext cx="830556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在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中对各种变项的指定也称为对它们的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解释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。这里是先给出公式再对它们进行解释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也可以先给出解释，再去解释各种公式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指定其中个体域的范围，并指定其中谓词的具体含义使其成为命题，称为对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解释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由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生成的一阶语言，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华文隶书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解释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由下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部分组成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非空个体域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12680" y="4076640"/>
            <a:ext cx="5380560" cy="488880"/>
            <a:chOff x="1912680" y="4076640"/>
            <a:chExt cx="5380560" cy="488880"/>
          </a:xfrm>
        </p:grpSpPr>
        <p:sp>
          <p:nvSpPr>
            <p:cNvPr id="172" name=""/>
            <p:cNvSpPr/>
            <p:nvPr/>
          </p:nvSpPr>
          <p:spPr>
            <a:xfrm>
              <a:off x="1912680" y="4076640"/>
              <a:ext cx="53805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179280" indent="32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b)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对每一个个体常项符号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,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一个   </a:t>
              </a:r>
              <a:r>
                <a:rPr b="1" lang="zh-CN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1" lang="zh-CN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称    为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的解释；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6300720" y="4149720"/>
            <a:ext cx="27000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00720" y="4149720"/>
                      <a:ext cx="2700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238720" y="4149720"/>
            <a:ext cx="27000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8720" y="4149720"/>
                      <a:ext cx="2700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"/>
          <p:cNvGrpSpPr/>
          <p:nvPr/>
        </p:nvGrpSpPr>
        <p:grpSpPr>
          <a:xfrm>
            <a:off x="250920" y="4611600"/>
            <a:ext cx="8497800" cy="547920"/>
            <a:chOff x="250920" y="4611600"/>
            <a:chExt cx="8497800" cy="547920"/>
          </a:xfrm>
        </p:grpSpPr>
        <p:graphicFrame>
          <p:nvGraphicFramePr>
            <p:cNvPr id="178" name=""/>
            <p:cNvGraphicFramePr/>
            <p:nvPr/>
          </p:nvGraphicFramePr>
          <p:xfrm>
            <a:off x="7164360" y="4611600"/>
            <a:ext cx="293760" cy="4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64360" y="4611600"/>
                      <a:ext cx="29376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250920" y="4611600"/>
              <a:ext cx="8497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82520">
                <a:lnSpc>
                  <a:spcPct val="11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)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对每一个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函数符号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1" lang="zh-CN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一个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1" lang="zh-CN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的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函数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称    为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的解释；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7935840" y="4633920"/>
            <a:ext cx="29376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35840" y="4633920"/>
                      <a:ext cx="29376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250920" y="5445000"/>
            <a:ext cx="8497800" cy="547920"/>
            <a:chOff x="250920" y="5445000"/>
            <a:chExt cx="8497800" cy="547920"/>
          </a:xfrm>
        </p:grpSpPr>
        <p:sp>
          <p:nvSpPr>
            <p:cNvPr id="184" name=""/>
            <p:cNvSpPr/>
            <p:nvPr/>
          </p:nvSpPr>
          <p:spPr>
            <a:xfrm>
              <a:off x="250920" y="5445000"/>
              <a:ext cx="8497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82520">
                <a:lnSpc>
                  <a:spcPct val="11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d)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对每一个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谓词符号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一个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1" lang="zh-CN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的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谓词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称    为</a:t>
              </a:r>
              <a:r>
                <a:rPr b="1" i="1" lang="zh-CN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的解释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7998120" y="5445000"/>
            <a:ext cx="3189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98120" y="5445000"/>
                      <a:ext cx="3189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7237440" y="5445000"/>
            <a:ext cx="31932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37440" y="5445000"/>
                      <a:ext cx="3193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"/>
          <p:cNvSpPr/>
          <p:nvPr/>
        </p:nvSpPr>
        <p:spPr>
          <a:xfrm>
            <a:off x="1733760" y="9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A6E-868C-4F71-B38B-D1FC888620E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415F7-7016-4E55-8364-0A36C3932DB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295280"/>
            <a:ext cx="8305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第四章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S Gothic"/>
              </a:rPr>
              <a:t>一阶</a:t>
            </a:r>
            <a:r>
              <a:rPr b="1" lang="zh-CN" sz="5400" spc="-1" strike="noStrike">
                <a:solidFill>
                  <a:srgbClr val="000000"/>
                </a:solidFill>
                <a:latin typeface="MS Gothic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MS Gothic"/>
              </a:rPr>
              <a:t>谓词</a:t>
            </a:r>
            <a:r>
              <a:rPr b="1" lang="zh-CN" sz="5400" spc="-1" strike="noStrike">
                <a:solidFill>
                  <a:srgbClr val="000000"/>
                </a:solidFill>
                <a:latin typeface="MS Gothic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MS Gothic"/>
              </a:rPr>
              <a:t>逻辑基本概念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789360"/>
            <a:ext cx="4319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谓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逻辑符号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4437000"/>
            <a:ext cx="460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谓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逻辑公式及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4005360"/>
            <a:ext cx="74520" cy="647640"/>
          </a:xfrm>
          <a:custGeom>
            <a:avLst/>
            <a:gdLst>
              <a:gd name="textAreaLeft" fmla="*/ 47520 w 74520"/>
              <a:gd name="textAreaRight" fmla="*/ 74880 w 745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386-FC7E-41FE-A7BB-4A6F179520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3F83B-CB6E-48B1-939E-B1A6E007671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16080" y="1106640"/>
            <a:ext cx="8001000" cy="2115360"/>
            <a:chOff x="316080" y="1106640"/>
            <a:chExt cx="8001000" cy="2115360"/>
          </a:xfrm>
        </p:grpSpPr>
        <p:sp>
          <p:nvSpPr>
            <p:cNvPr id="191" name=""/>
            <p:cNvSpPr/>
            <p:nvPr/>
          </p:nvSpPr>
          <p:spPr>
            <a:xfrm>
              <a:off x="316080" y="1106640"/>
              <a:ext cx="8001000" cy="21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例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4.8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给定解释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如下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体域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=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然数集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b)    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)                             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d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1230480" y="1960560"/>
            <a:ext cx="269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30480" y="1960560"/>
                      <a:ext cx="269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3130560" y="2405160"/>
            <a:ext cx="1814400" cy="43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2405160"/>
                      <a:ext cx="18144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1258920" y="2413080"/>
            <a:ext cx="1666800" cy="39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8920" y="2413080"/>
                      <a:ext cx="166680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1258920" y="2773440"/>
            <a:ext cx="193680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2773440"/>
                      <a:ext cx="1936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0" name=""/>
          <p:cNvSpPr/>
          <p:nvPr/>
        </p:nvSpPr>
        <p:spPr>
          <a:xfrm>
            <a:off x="250920" y="3213000"/>
            <a:ext cx="8675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解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下，下列公式哪些为真？哪些为假？哪些真值不能确定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f(x,y), g(x,y))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+y= x·y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f(x,a), y) → F(g(x, y),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(x+0=y) →(x·y=z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┐F(g(x,y), g(y,z))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·y≠y·z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71080" y="5911920"/>
            <a:ext cx="19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不是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真值不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28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不是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真值不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5048280"/>
            <a:ext cx="28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不是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真值不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760" y="9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B8A-B625-469C-ADCB-E6D0203F3DD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BBDFD-2F93-4B35-9896-99D9C33316C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8000" y="1125360"/>
            <a:ext cx="8748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F(g(x, y), z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 (x·y≠y·z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g(x, a),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 (x·0=x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g(x, a),x) → F(x,y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 (x·0 = x)→(x=y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7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(F(f(x,a),y)→ F(f(y,a), x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y ((x+0=y)→(y+0=x)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8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 F(f(x,y),z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z(x+y=z)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f(x,x),g(x,x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式解释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: 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x(x+x = x·x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5080" y="1592280"/>
            <a:ext cx="19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不是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真值不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56800" y="248436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假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4760" y="3421080"/>
            <a:ext cx="19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真命题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前件为假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85600" y="609300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真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0440" y="430704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真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1720" y="525636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真命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3760" y="9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218-3B44-4A7B-91D7-8E5FAF367D1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3DAB2-B83A-421D-BC52-53CA6EFBE605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1052640"/>
            <a:ext cx="84312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理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闭式在任何解释下都可变成命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989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一个公式，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任何解释下均为真，则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永真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逻辑有效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9520" y="28274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任何解释下均为假，则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永假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逻辑矛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9520" y="3259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至少存在一个解释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，则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可满足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20" y="3774960"/>
            <a:ext cx="861048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含命题变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命题公式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谓词公式。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≤i≤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处处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得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代换实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x)→G(x),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 →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G(y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都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代换实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重言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代换实例都是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永真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矛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代换实例都是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矛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8440" y="9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公式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CBB-2E05-4699-ADF4-C7DA4EA77F8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1FCB0-06CF-48C6-A2B1-9C717B1685A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1030320"/>
            <a:ext cx="8209080" cy="16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判断下列公式中，哪些是永真式，哪些是永假式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F(x) →G(x));           (3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→(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G(x,y) →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F(x)∧G(x));           (4) ┐(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→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G(y))∧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G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, B, C , 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别代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公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4200" y="2643120"/>
            <a:ext cx="86058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解释：个体域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实数域；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实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G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有理数。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是矛盾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取解释：个体域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实数域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无理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G(x): 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能表示成分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。故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可满足式但不是永真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非永真的可满足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命题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→(q→p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代换实例，而该命题公式是重言式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永真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4) 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命题公式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→q)∧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代换实例，而该命题公式为矛盾式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矛盾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02440" y="9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公式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5E1-7BF8-41BC-BE7F-F9321FC27A2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CBD4A-AA1C-4A41-8DAD-4FEAFC9BAE67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90792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判断下列公式的类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 →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F(x,y)→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F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F(x)∧G(x))→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G(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 记三式中的公式分别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2616120"/>
            <a:ext cx="80773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任一解释，个体域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若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∈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F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，所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件为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任意性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永真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3560" y="3146400"/>
            <a:ext cx="34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为真。从而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95136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解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体域为自然数集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≤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件与后件均为真，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真，这说明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是矛盾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另取解释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体域为自然数集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, F(x,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=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件真而后件假，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假。这又说明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是永真式。从而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非永真的可满足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  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是非永真的可满足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18440" y="9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公式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8CF-90FE-4130-95B8-DDDA43850C9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3840D-938C-4A7C-9379-165D07335158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2920" y="907920"/>
            <a:ext cx="88930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MS Gothic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MS Gothic"/>
              </a:rPr>
              <a:t>在命题逻辑中，命题是最基本的单位，对简单命题不再进行分解，不关心命题中个体与总体的内在联系和数量关系。这就使得它难以描述和证明一些常见的推理。因此，需要对命题进行细化，建立更为精细的逻辑推理体系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例如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逻辑学中著名的三段论：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凡偶数都能被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整除。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是偶数。所以， 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能被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整除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这个推理是数学中的真命题，是正确的，但在命题逻辑中却无法判断其正确性，用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p,q,r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分别表示以上三个命题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则得到推理的形式结构为：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(p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∧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q)</a:t>
            </a:r>
            <a:r>
              <a:rPr b="1" lang="zh-CN" sz="2100" spc="-1" strike="noStrike">
                <a:solidFill>
                  <a:srgbClr val="ff0000"/>
                </a:solidFill>
                <a:latin typeface="Tahoma"/>
              </a:rPr>
              <a:t>→</a:t>
            </a: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由于上式不是重言式，因而不能由它判断推理的正确性。原因在于各命题的内在联系没有表示出来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100" spc="-1" strike="noStrike">
                <a:solidFill>
                  <a:srgbClr val="000000"/>
                </a:solidFill>
                <a:latin typeface="Tahoma"/>
              </a:rPr>
              <a:t>为了克服命题逻辑的局限性，应该将原子命题再细分，分析出个体词、谓词和量词，以便达到表达出命题的内在联系和命题之间的逻辑关系。这就是一阶逻辑所研究的内容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3040" y="131760"/>
            <a:ext cx="19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简 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F3B-AE3C-49FA-9AE6-AE919CC113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04237-AAB0-4696-BD3A-B52BB5482E47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2360" y="1085760"/>
            <a:ext cx="8640720" cy="36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一、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谓词逻辑命题符号化的三个基本要素：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个体词、谓词、量词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  <a:ea typeface="宋体"/>
              </a:rPr>
              <a:t>个体词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：研究对象中可以独立存在的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  <a:ea typeface="宋体"/>
              </a:rPr>
              <a:t>具体的或抽象的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客体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例如：小王，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宋体"/>
              </a:rPr>
              <a:t>马列主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北京等都可做为个体词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具体或特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客体的个体词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个体常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一般用小写字母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…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抽象或泛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个体词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变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一般用小写字母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,…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体变项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取值范围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个体域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或论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个体域可以是有限集合，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,2,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，也可以是无限集合，如自然数集合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或实数集合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。由宇宙间一切事物组成的个体域称为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全总个体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4440" y="763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阶逻辑命题符号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C2F-56C1-4844-BD57-44B7C201918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D4018-B27F-49E2-82F8-D1C6E3B225C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68360" y="1376280"/>
            <a:ext cx="7081920" cy="398880"/>
            <a:chOff x="468360" y="1376280"/>
            <a:chExt cx="7081920" cy="398880"/>
          </a:xfrm>
        </p:grpSpPr>
        <p:sp>
          <p:nvSpPr>
            <p:cNvPr id="112" name=""/>
            <p:cNvSpPr/>
            <p:nvPr/>
          </p:nvSpPr>
          <p:spPr>
            <a:xfrm>
              <a:off x="468360" y="1376280"/>
              <a:ext cx="70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例如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:  ①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在命题“    是无理数”中，“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…是无理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”是谓词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365560" y="1400040"/>
            <a:ext cx="380880" cy="34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560" y="1400040"/>
                      <a:ext cx="38088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514440" y="1700280"/>
            <a:ext cx="8305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②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命题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有理数”中，“…是有理数”是谓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命题“小王与小李同岁”中，“…与…同岁”是谓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④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命题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关系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“…与…具有关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谓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大写字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来表示谓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具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性质或关系的谓词称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谓词常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抽象或泛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性质或关系的谓词称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谓词变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表示个体常项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具有性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谓词常项或变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表示个体变项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具有性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表示个体常项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具有关系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表示个体变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具有关系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264280"/>
            <a:ext cx="8713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一般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表示含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≥1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个命题变项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元谓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它可看成以个体域为定义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为值域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元函数关系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取常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取定常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一个命题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66960" y="917640"/>
            <a:ext cx="5401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谓词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来刻划个体词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性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个体词之间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相互关系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9400" y="16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谓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1CE-3FF8-42EC-BB8B-AA72EC6B368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1B05-01B3-41DD-89FD-57921BB6081D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880920"/>
            <a:ext cx="835344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不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体变项的谓词称为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谓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…,a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。当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, G, 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为谓词常项时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谓词即为命题。因此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命题可看作特殊的谓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谓词将下列命题符号化，并讨论它们的真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素数时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才是素数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573360"/>
            <a:ext cx="820908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一元谓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素数；个体常项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命题可符号化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→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该蕴含式前件为假，故命题为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二元谓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个体常项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: 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: 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: 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命题可符号化为：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真，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假，故命题为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9400" y="16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谓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A51-680E-4780-913B-BBB155C951D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2B135-5119-41A0-8CE1-5A74933353D2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34800"/>
            <a:ext cx="8964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了个体词和谓词的概念之后，有些命题还是不能准确地符号化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以前面所讨论的三段论为例：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：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偶数。    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能被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符号化为：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  (2)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   (3)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我们知道，“凡偶数都能被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整除。”是一个真命题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而“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一个一元函数，不是一个命题。原因是“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没有把命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“凡”的意思表示出来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即缺少表示个体常项或变项的数量关系的词。所以还要引入量词的概念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9400" y="16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谓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004-93EE-4F9D-A90D-70D003BB82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D8FE-38DB-47D3-B148-AF670B8EA86D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1052640"/>
            <a:ext cx="856944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量词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个体常项或变项之间数量关系的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量词只有两个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全称量词、存在量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全称量词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“全部”含义的词。全称量词统一符号化为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语中“全部”、“所有的”、“一切”、“每一个”、“任何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任意的”、“凡”、“都”等词都是全称量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个体域里所有个体都有性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存在量词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“存在”含义的词。存在量词统一符号化为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词中“存在”、“有一个”、“有的”、“至少有一个”等词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存在量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 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个体域中存在个体具有性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凡偶数都能被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整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可符号化为：</a:t>
            </a:r>
            <a:r>
              <a:rPr b="1" lang="zh-CN" sz="20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P(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)→S(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)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真命题，其中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再起变元的作用，它   被全称量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限制住了，这时我们称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被量化了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9400" y="16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量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B90-57FD-4062-99D7-EA1E565D9E4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55A8-8058-4DC0-A610-F9E2D9764D0D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933480"/>
            <a:ext cx="8381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2-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个体域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类集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下面两个命题符号化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凡是人都要呼吸；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的人用左手写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):  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呼吸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G(x): 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左手写字。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 F(x);      (2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 G(x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708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.2-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上例中，将个体域改为</a:t>
            </a: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全总个体域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后，两命题的符号化形式如何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933720"/>
            <a:ext cx="813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上面例子可见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不同个体域中，同一个命题的符号化形式可能不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6240" y="1677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阶逻辑中命题符号化问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068640"/>
            <a:ext cx="86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解：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呼吸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G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左手写字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(x): 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(1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M(x) → F(x));         (2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(M(x)∧ G(x)).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69592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同一个命题，在不同个体域中的真值也可能不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2560" y="4807080"/>
            <a:ext cx="655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一般地，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对全称量词，特性谓词应作为蕴含式的前件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一般地，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对存在量词，特性谓词应作为合取式的一项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问题中没有指明个体域时，默认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全总体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321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特性谓词：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从全总个体域中分离出一个集合，定义的谓词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0DD-94C3-4F84-BD78-9A9A51E336E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2E396-436C-4A53-BC53-E8C7413D12C6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cdr</dc:creator>
  <dc:description/>
  <dc:language>en-US</dc:language>
  <cp:lastModifiedBy>User</cp:lastModifiedBy>
  <dcterms:modified xsi:type="dcterms:W3CDTF">2012-02-26T03:29:19Z</dcterms:modified>
  <cp:revision>301</cp:revision>
  <dc:subject/>
  <dc:title>EXAMPLE 1  </dc:title>
</cp:coreProperties>
</file>